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4507-84D7-4310-A307-98A2F869B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71B0-7635-4F24-99B7-6C8B6091A3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B0B-37BC-4538-98DB-BF3FF3FC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5E1-E2C3-4DBE-A561-416C75F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EB1-B98C-4A2D-8095-8C7BBB7D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0E5-C17C-4066-90DD-7A752EFD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0AD-8821-456F-9482-47855C6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E9E-5B13-4948-97BE-F7EA28E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5F7-27E1-4E16-9954-2C673F81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90E-9D6F-4D08-B5F5-7C3AAB8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DAC-B59F-41F8-9948-A6BD729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C8B-D9C1-4086-86D0-46B8A6E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A70-2A55-4C7D-AE3F-0F14BDF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8C4-42FB-469E-A240-D2FD698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3891a7">
                    <a:alpha val="0"/>
                  </a:srgbClr>
                </a:gs>
                <a:gs pos="100000">
                  <a:srgbClr val="e8e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651F-F0C6-4023-8CE6-0670B2430543}" type="slidenum"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4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6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7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3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92" name="Rectangl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14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16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assign.net/info/conten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webassign.net/login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akeviewacademy.wikispaces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NO MORE EXCUSES!</a:t>
            </a:r>
            <a:endParaRPr b="0" lang="en-US" sz="4800" spc="-1" strike="noStrike">
              <a:solidFill>
                <a:srgbClr val="ffffff"/>
              </a:solidFill>
              <a:latin typeface="Segoe Condense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Welcome to WebAssign</a:t>
            </a:r>
            <a:endParaRPr b="0" lang="en-US" sz="3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704880" y="4495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Marvin Clarke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Lakeview Academy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://www.webassign.net/info/content.htm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Do I Check To See If My Textbook Is Supported By WebAssign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ere Does WebAssign Get The Questions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e questions WebAssign uses come directly from the textbook. The questions are exactly the same except the number will vary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eachers can refer to </a:t>
            </a:r>
            <a:r>
              <a:rPr b="0" i="1" lang="en-US" sz="2800" spc="-1" strike="noStrike">
                <a:solidFill>
                  <a:srgbClr val="ffffff"/>
                </a:solidFill>
                <a:latin typeface="Segoe Condensed"/>
              </a:rPr>
              <a:t>Teachers Edition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r solutions to problems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69" name="Ink 4"/>
          <p:cNvSpPr/>
          <p:nvPr/>
        </p:nvSpPr>
        <p:spPr>
          <a:xfrm>
            <a:off x="6842160" y="1805040"/>
            <a:ext cx="1863720" cy="531720"/>
          </a:xfrm>
          <a:custGeom>
            <a:avLst/>
            <a:gdLst/>
            <a:ahLst/>
            <a:rect l="l" t="t" r="r" b="b"/>
            <a:pathLst>
              <a:path w="5180" h="1480">
                <a:moveTo>
                  <a:pt x="21845" y="5201"/>
                </a:moveTo>
                <a:lnTo>
                  <a:pt x="21796" y="5198"/>
                </a:lnTo>
                <a:lnTo>
                  <a:pt x="21754" y="5228"/>
                </a:lnTo>
                <a:lnTo>
                  <a:pt x="21701" y="5203"/>
                </a:lnTo>
                <a:lnTo>
                  <a:pt x="21606" y="5157"/>
                </a:lnTo>
                <a:lnTo>
                  <a:pt x="21554" y="5064"/>
                </a:lnTo>
                <a:lnTo>
                  <a:pt x="21445" y="5034"/>
                </a:lnTo>
                <a:lnTo>
                  <a:pt x="21225" y="4974"/>
                </a:lnTo>
                <a:lnTo>
                  <a:pt x="20926" y="5007"/>
                </a:lnTo>
                <a:lnTo>
                  <a:pt x="20698" y="5012"/>
                </a:lnTo>
                <a:lnTo>
                  <a:pt x="20360" y="5020"/>
                </a:lnTo>
                <a:lnTo>
                  <a:pt x="20024" y="5115"/>
                </a:lnTo>
                <a:lnTo>
                  <a:pt x="19699" y="5200"/>
                </a:lnTo>
                <a:lnTo>
                  <a:pt x="19514" y="5248"/>
                </a:lnTo>
                <a:lnTo>
                  <a:pt x="19262" y="5309"/>
                </a:lnTo>
                <a:lnTo>
                  <a:pt x="19160" y="5492"/>
                </a:lnTo>
                <a:lnTo>
                  <a:pt x="19091" y="5616"/>
                </a:lnTo>
                <a:lnTo>
                  <a:pt x="19056" y="5796"/>
                </a:lnTo>
                <a:lnTo>
                  <a:pt x="19023" y="5933"/>
                </a:lnTo>
                <a:lnTo>
                  <a:pt x="19000" y="6030"/>
                </a:lnTo>
                <a:lnTo>
                  <a:pt x="18997" y="6086"/>
                </a:lnTo>
                <a:lnTo>
                  <a:pt x="19061" y="6164"/>
                </a:lnTo>
                <a:lnTo>
                  <a:pt x="19234" y="6377"/>
                </a:lnTo>
                <a:lnTo>
                  <a:pt x="19672" y="6379"/>
                </a:lnTo>
                <a:lnTo>
                  <a:pt x="19916" y="6409"/>
                </a:lnTo>
                <a:lnTo>
                  <a:pt x="20253" y="6450"/>
                </a:lnTo>
                <a:lnTo>
                  <a:pt x="20571" y="6498"/>
                </a:lnTo>
                <a:lnTo>
                  <a:pt x="20912" y="6483"/>
                </a:lnTo>
                <a:lnTo>
                  <a:pt x="21333" y="6465"/>
                </a:lnTo>
                <a:lnTo>
                  <a:pt x="21756" y="6440"/>
                </a:lnTo>
                <a:lnTo>
                  <a:pt x="22178" y="6440"/>
                </a:lnTo>
                <a:lnTo>
                  <a:pt x="22554" y="6440"/>
                </a:lnTo>
                <a:lnTo>
                  <a:pt x="22897" y="6433"/>
                </a:lnTo>
                <a:lnTo>
                  <a:pt x="23268" y="6355"/>
                </a:lnTo>
                <a:lnTo>
                  <a:pt x="23517" y="6302"/>
                </a:lnTo>
                <a:lnTo>
                  <a:pt x="23889" y="6277"/>
                </a:lnTo>
                <a:lnTo>
                  <a:pt x="24107" y="6134"/>
                </a:lnTo>
                <a:lnTo>
                  <a:pt x="24159" y="6100"/>
                </a:lnTo>
                <a:lnTo>
                  <a:pt x="24168" y="6080"/>
                </a:lnTo>
                <a:lnTo>
                  <a:pt x="24183" y="6023"/>
                </a:lnTo>
                <a:lnTo>
                  <a:pt x="24231" y="5835"/>
                </a:lnTo>
                <a:lnTo>
                  <a:pt x="24116" y="5499"/>
                </a:lnTo>
                <a:lnTo>
                  <a:pt x="23976" y="5377"/>
                </a:lnTo>
                <a:lnTo>
                  <a:pt x="23784" y="5209"/>
                </a:lnTo>
                <a:lnTo>
                  <a:pt x="23470" y="5146"/>
                </a:lnTo>
                <a:lnTo>
                  <a:pt x="23230" y="5084"/>
                </a:lnTo>
                <a:lnTo>
                  <a:pt x="22827" y="4980"/>
                </a:lnTo>
                <a:lnTo>
                  <a:pt x="22449" y="5028"/>
                </a:lnTo>
                <a:lnTo>
                  <a:pt x="22045" y="5099"/>
                </a:lnTo>
                <a:lnTo>
                  <a:pt x="21724" y="5155"/>
                </a:lnTo>
                <a:lnTo>
                  <a:pt x="21485" y="5214"/>
                </a:lnTo>
                <a:lnTo>
                  <a:pt x="21200" y="5100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5"/>
          <p:cNvSpPr/>
          <p:nvPr/>
        </p:nvSpPr>
        <p:spPr>
          <a:xfrm>
            <a:off x="6788160" y="3681360"/>
            <a:ext cx="2130480" cy="608040"/>
          </a:xfrm>
          <a:custGeom>
            <a:avLst/>
            <a:gdLst/>
            <a:ahLst/>
            <a:rect l="l" t="t" r="r" b="b"/>
            <a:pathLst>
              <a:path w="5919" h="1686">
                <a:moveTo>
                  <a:pt x="21464" y="10295"/>
                </a:moveTo>
                <a:lnTo>
                  <a:pt x="21165" y="10344"/>
                </a:lnTo>
                <a:lnTo>
                  <a:pt x="20894" y="10364"/>
                </a:lnTo>
                <a:lnTo>
                  <a:pt x="20592" y="10369"/>
                </a:lnTo>
                <a:lnTo>
                  <a:pt x="20182" y="10375"/>
                </a:lnTo>
                <a:lnTo>
                  <a:pt x="19744" y="10588"/>
                </a:lnTo>
                <a:lnTo>
                  <a:pt x="19413" y="10820"/>
                </a:lnTo>
                <a:lnTo>
                  <a:pt x="19237" y="10943"/>
                </a:lnTo>
                <a:lnTo>
                  <a:pt x="19019" y="11121"/>
                </a:lnTo>
                <a:lnTo>
                  <a:pt x="18909" y="11308"/>
                </a:lnTo>
                <a:lnTo>
                  <a:pt x="18824" y="11452"/>
                </a:lnTo>
                <a:lnTo>
                  <a:pt x="18846" y="11570"/>
                </a:lnTo>
                <a:lnTo>
                  <a:pt x="18991" y="11649"/>
                </a:lnTo>
                <a:lnTo>
                  <a:pt x="19282" y="11808"/>
                </a:lnTo>
                <a:lnTo>
                  <a:pt x="19674" y="11782"/>
                </a:lnTo>
                <a:lnTo>
                  <a:pt x="19991" y="11809"/>
                </a:lnTo>
                <a:lnTo>
                  <a:pt x="20373" y="11842"/>
                </a:lnTo>
                <a:lnTo>
                  <a:pt x="20729" y="11933"/>
                </a:lnTo>
                <a:lnTo>
                  <a:pt x="21115" y="11894"/>
                </a:lnTo>
                <a:lnTo>
                  <a:pt x="21440" y="11861"/>
                </a:lnTo>
                <a:lnTo>
                  <a:pt x="21737" y="11826"/>
                </a:lnTo>
                <a:lnTo>
                  <a:pt x="22064" y="11850"/>
                </a:lnTo>
                <a:lnTo>
                  <a:pt x="22546" y="11886"/>
                </a:lnTo>
                <a:lnTo>
                  <a:pt x="23037" y="11792"/>
                </a:lnTo>
                <a:lnTo>
                  <a:pt x="23515" y="11735"/>
                </a:lnTo>
                <a:lnTo>
                  <a:pt x="23866" y="11693"/>
                </a:lnTo>
                <a:lnTo>
                  <a:pt x="24326" y="11657"/>
                </a:lnTo>
                <a:lnTo>
                  <a:pt x="24627" y="11447"/>
                </a:lnTo>
                <a:lnTo>
                  <a:pt x="24759" y="11355"/>
                </a:lnTo>
                <a:lnTo>
                  <a:pt x="24787" y="11251"/>
                </a:lnTo>
                <a:lnTo>
                  <a:pt x="24758" y="11098"/>
                </a:lnTo>
                <a:lnTo>
                  <a:pt x="24723" y="10915"/>
                </a:lnTo>
                <a:lnTo>
                  <a:pt x="24525" y="10681"/>
                </a:lnTo>
                <a:lnTo>
                  <a:pt x="24379" y="10570"/>
                </a:lnTo>
                <a:lnTo>
                  <a:pt x="24119" y="10373"/>
                </a:lnTo>
                <a:lnTo>
                  <a:pt x="23688" y="10338"/>
                </a:lnTo>
                <a:lnTo>
                  <a:pt x="23377" y="10308"/>
                </a:lnTo>
                <a:lnTo>
                  <a:pt x="22784" y="10250"/>
                </a:lnTo>
                <a:lnTo>
                  <a:pt x="22175" y="10290"/>
                </a:lnTo>
                <a:lnTo>
                  <a:pt x="21579" y="10272"/>
                </a:lnTo>
                <a:lnTo>
                  <a:pt x="21334" y="10265"/>
                </a:lnTo>
                <a:lnTo>
                  <a:pt x="20793" y="10392"/>
                </a:lnTo>
                <a:lnTo>
                  <a:pt x="20576" y="10305"/>
                </a:lnTo>
                <a:lnTo>
                  <a:pt x="20497" y="10273"/>
                </a:lnTo>
                <a:lnTo>
                  <a:pt x="20575" y="10266"/>
                </a:lnTo>
                <a:lnTo>
                  <a:pt x="20525" y="10227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How Do I Log-In to WebAssign?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58052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3" name="Ink 7"/>
          <p:cNvSpPr/>
          <p:nvPr/>
        </p:nvSpPr>
        <p:spPr>
          <a:xfrm>
            <a:off x="923760" y="4556160"/>
            <a:ext cx="924120" cy="531720"/>
          </a:xfrm>
          <a:custGeom>
            <a:avLst/>
            <a:gdLst/>
            <a:ahLst/>
            <a:rect l="l" t="t" r="r" b="b"/>
            <a:pathLst>
              <a:path w="2567" h="1478">
                <a:moveTo>
                  <a:pt x="3980" y="12670"/>
                </a:moveTo>
                <a:lnTo>
                  <a:pt x="3956" y="12667"/>
                </a:lnTo>
                <a:lnTo>
                  <a:pt x="3930" y="12662"/>
                </a:lnTo>
                <a:lnTo>
                  <a:pt x="3906" y="12660"/>
                </a:lnTo>
                <a:lnTo>
                  <a:pt x="3874" y="12657"/>
                </a:lnTo>
                <a:lnTo>
                  <a:pt x="3851" y="12657"/>
                </a:lnTo>
                <a:lnTo>
                  <a:pt x="3819" y="12660"/>
                </a:lnTo>
                <a:lnTo>
                  <a:pt x="3788" y="12663"/>
                </a:lnTo>
                <a:lnTo>
                  <a:pt x="3760" y="12679"/>
                </a:lnTo>
                <a:lnTo>
                  <a:pt x="3729" y="12681"/>
                </a:lnTo>
                <a:lnTo>
                  <a:pt x="3692" y="12684"/>
                </a:lnTo>
                <a:lnTo>
                  <a:pt x="3656" y="12678"/>
                </a:lnTo>
                <a:lnTo>
                  <a:pt x="3619" y="12678"/>
                </a:lnTo>
                <a:lnTo>
                  <a:pt x="3508" y="12677"/>
                </a:lnTo>
                <a:lnTo>
                  <a:pt x="3435" y="12699"/>
                </a:lnTo>
                <a:lnTo>
                  <a:pt x="3334" y="12743"/>
                </a:lnTo>
                <a:lnTo>
                  <a:pt x="3164" y="12817"/>
                </a:lnTo>
                <a:lnTo>
                  <a:pt x="3031" y="12933"/>
                </a:lnTo>
                <a:lnTo>
                  <a:pt x="2884" y="13043"/>
                </a:lnTo>
                <a:lnTo>
                  <a:pt x="2835" y="13080"/>
                </a:lnTo>
                <a:lnTo>
                  <a:pt x="2788" y="13117"/>
                </a:lnTo>
                <a:lnTo>
                  <a:pt x="2748" y="13164"/>
                </a:lnTo>
                <a:lnTo>
                  <a:pt x="2674" y="13251"/>
                </a:lnTo>
                <a:lnTo>
                  <a:pt x="2620" y="13361"/>
                </a:lnTo>
                <a:lnTo>
                  <a:pt x="2593" y="13471"/>
                </a:lnTo>
                <a:lnTo>
                  <a:pt x="2578" y="13532"/>
                </a:lnTo>
                <a:lnTo>
                  <a:pt x="2572" y="13596"/>
                </a:lnTo>
                <a:lnTo>
                  <a:pt x="2569" y="13659"/>
                </a:lnTo>
                <a:lnTo>
                  <a:pt x="2567" y="13706"/>
                </a:lnTo>
                <a:lnTo>
                  <a:pt x="2564" y="13759"/>
                </a:lnTo>
                <a:lnTo>
                  <a:pt x="2581" y="13804"/>
                </a:lnTo>
                <a:lnTo>
                  <a:pt x="2601" y="13855"/>
                </a:lnTo>
                <a:lnTo>
                  <a:pt x="2639" y="13900"/>
                </a:lnTo>
                <a:lnTo>
                  <a:pt x="2672" y="13943"/>
                </a:lnTo>
                <a:lnTo>
                  <a:pt x="2763" y="14060"/>
                </a:lnTo>
                <a:lnTo>
                  <a:pt x="2835" y="14083"/>
                </a:lnTo>
                <a:lnTo>
                  <a:pt x="2974" y="14095"/>
                </a:lnTo>
                <a:lnTo>
                  <a:pt x="3134" y="14109"/>
                </a:lnTo>
                <a:lnTo>
                  <a:pt x="3280" y="14140"/>
                </a:lnTo>
                <a:lnTo>
                  <a:pt x="3442" y="14119"/>
                </a:lnTo>
                <a:lnTo>
                  <a:pt x="3600" y="14099"/>
                </a:lnTo>
                <a:lnTo>
                  <a:pt x="3740" y="14119"/>
                </a:lnTo>
                <a:lnTo>
                  <a:pt x="3898" y="14125"/>
                </a:lnTo>
                <a:lnTo>
                  <a:pt x="4038" y="14130"/>
                </a:lnTo>
                <a:lnTo>
                  <a:pt x="4140" y="14082"/>
                </a:lnTo>
                <a:lnTo>
                  <a:pt x="4266" y="14029"/>
                </a:lnTo>
                <a:lnTo>
                  <a:pt x="4379" y="13981"/>
                </a:lnTo>
                <a:lnTo>
                  <a:pt x="4513" y="13975"/>
                </a:lnTo>
                <a:lnTo>
                  <a:pt x="4617" y="13913"/>
                </a:lnTo>
                <a:lnTo>
                  <a:pt x="4748" y="13835"/>
                </a:lnTo>
                <a:lnTo>
                  <a:pt x="4845" y="13713"/>
                </a:lnTo>
                <a:lnTo>
                  <a:pt x="4973" y="13634"/>
                </a:lnTo>
                <a:lnTo>
                  <a:pt x="5038" y="13594"/>
                </a:lnTo>
                <a:lnTo>
                  <a:pt x="5066" y="13591"/>
                </a:lnTo>
                <a:lnTo>
                  <a:pt x="5101" y="13518"/>
                </a:lnTo>
                <a:lnTo>
                  <a:pt x="5148" y="13420"/>
                </a:lnTo>
                <a:lnTo>
                  <a:pt x="5145" y="13316"/>
                </a:lnTo>
                <a:lnTo>
                  <a:pt x="5077" y="13234"/>
                </a:lnTo>
                <a:lnTo>
                  <a:pt x="4986" y="13125"/>
                </a:lnTo>
                <a:lnTo>
                  <a:pt x="4801" y="13033"/>
                </a:lnTo>
                <a:lnTo>
                  <a:pt x="4679" y="12961"/>
                </a:lnTo>
                <a:lnTo>
                  <a:pt x="4602" y="12915"/>
                </a:lnTo>
                <a:lnTo>
                  <a:pt x="4522" y="12871"/>
                </a:lnTo>
                <a:lnTo>
                  <a:pt x="4443" y="12828"/>
                </a:lnTo>
                <a:lnTo>
                  <a:pt x="4317" y="12759"/>
                </a:lnTo>
                <a:lnTo>
                  <a:pt x="4217" y="12747"/>
                </a:lnTo>
                <a:lnTo>
                  <a:pt x="4077" y="12776"/>
                </a:lnTo>
                <a:lnTo>
                  <a:pt x="3836" y="12825"/>
                </a:lnTo>
                <a:lnTo>
                  <a:pt x="3645" y="12832"/>
                </a:lnTo>
                <a:lnTo>
                  <a:pt x="3402" y="12828"/>
                </a:lnTo>
                <a:lnTo>
                  <a:pt x="3442" y="12815"/>
                </a:lnTo>
                <a:lnTo>
                  <a:pt x="3482" y="12801"/>
                </a:lnTo>
                <a:lnTo>
                  <a:pt x="3522" y="12787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03040" y="171360"/>
            <a:ext cx="87123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s://www.webassign.net/login.htm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Let's Go To WebAssign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Marvin Clark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hone Number- 770-532-4383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E-mail: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Marvin.Clarke@lakeviewacademy.com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s PowerPoint can be found at: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://lakeviewacademy.wikispaces.com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My Contact Informatio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WebAssign is an internet based homework and grading program for Science and Math.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WebAssign was developed by teachers, for teachers. It is driven by your unique teaching style, not some preconceived notion of how to assign homewor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  Create assignments from our ready-to-use database of textbook questions, or write and customize your own exercis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You have complete control over the homework your students receive, including due date, content, feedback, and question formats.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What is WebAssign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With WebAssign, you can: Create, post, and review assignments 24 hours a day, 7 days a week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Deliver, collect, grade, and record assignments instantly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Offer more practice exercises, quizzes, and homework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Assess student performance to keep abreast of individual progress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Capture the attention of your online, distance learning students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What is WebAssign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Helps students learn through practice and instant feedback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Offers faculty advanced teaching tools and a wide textbook selection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Allows more time for teaching by reducing time spent grading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Benefits of Using WebAssig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Independent Study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92240" y="1371600"/>
            <a:ext cx="8951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Online homework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Quizzes, tests and exam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re- and post- labs and laboratory report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olls and survey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Just-in-time teaching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oordinated teaching with a group of instruc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How Can You Use WebAssig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eacher &amp; Administrators can open an account FREE !!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WebAssign charges each student between $8.00 - $12.50 each, depending on the textbook you use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s charge is per class, per year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How Much Does It Cost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Astronom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Biolog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Chemistr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Engineering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Geoscience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Mathemat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Physical Science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Phys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Statist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Accounting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Social Studies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hat Subjects Can Use WebAssign?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Do I Check To See If My Textbook Is Supported By WebAssign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8229600" cy="5429160"/>
          </a:xfrm>
          <a:prstGeom prst="rect">
            <a:avLst/>
          </a:prstGeom>
          <a:ln w="0">
            <a:noFill/>
          </a:ln>
        </p:spPr>
      </p:pic>
      <p:sp>
        <p:nvSpPr>
          <p:cNvPr id="162" name="Ink 4"/>
          <p:cNvSpPr/>
          <p:nvPr/>
        </p:nvSpPr>
        <p:spPr>
          <a:xfrm>
            <a:off x="2743200" y="2270160"/>
            <a:ext cx="814320" cy="452520"/>
          </a:xfrm>
          <a:custGeom>
            <a:avLst/>
            <a:gdLst/>
            <a:ahLst/>
            <a:rect l="l" t="t" r="r" b="b"/>
            <a:pathLst>
              <a:path w="2261" h="1258">
                <a:moveTo>
                  <a:pt x="9071" y="6306"/>
                </a:moveTo>
                <a:lnTo>
                  <a:pt x="9020" y="6357"/>
                </a:lnTo>
                <a:lnTo>
                  <a:pt x="9012" y="6380"/>
                </a:lnTo>
                <a:lnTo>
                  <a:pt x="8937" y="6383"/>
                </a:lnTo>
                <a:lnTo>
                  <a:pt x="8852" y="6386"/>
                </a:lnTo>
                <a:lnTo>
                  <a:pt x="8765" y="6350"/>
                </a:lnTo>
                <a:lnTo>
                  <a:pt x="8682" y="6358"/>
                </a:lnTo>
                <a:lnTo>
                  <a:pt x="8599" y="6366"/>
                </a:lnTo>
                <a:lnTo>
                  <a:pt x="8528" y="6439"/>
                </a:lnTo>
                <a:lnTo>
                  <a:pt x="8452" y="6469"/>
                </a:lnTo>
                <a:lnTo>
                  <a:pt x="8367" y="6503"/>
                </a:lnTo>
                <a:lnTo>
                  <a:pt x="8275" y="6501"/>
                </a:lnTo>
                <a:lnTo>
                  <a:pt x="8189" y="6527"/>
                </a:lnTo>
                <a:lnTo>
                  <a:pt x="8112" y="6551"/>
                </a:lnTo>
                <a:lnTo>
                  <a:pt x="8037" y="6608"/>
                </a:lnTo>
                <a:lnTo>
                  <a:pt x="7973" y="6657"/>
                </a:lnTo>
                <a:lnTo>
                  <a:pt x="7925" y="6694"/>
                </a:lnTo>
                <a:lnTo>
                  <a:pt x="7881" y="6736"/>
                </a:lnTo>
                <a:lnTo>
                  <a:pt x="7840" y="6781"/>
                </a:lnTo>
                <a:lnTo>
                  <a:pt x="7782" y="6845"/>
                </a:lnTo>
                <a:lnTo>
                  <a:pt x="7624" y="6990"/>
                </a:lnTo>
                <a:lnTo>
                  <a:pt x="7621" y="7085"/>
                </a:lnTo>
                <a:lnTo>
                  <a:pt x="7620" y="7126"/>
                </a:lnTo>
                <a:lnTo>
                  <a:pt x="7638" y="7210"/>
                </a:lnTo>
                <a:lnTo>
                  <a:pt x="7651" y="7251"/>
                </a:lnTo>
                <a:lnTo>
                  <a:pt x="7660" y="7279"/>
                </a:lnTo>
                <a:lnTo>
                  <a:pt x="7675" y="7300"/>
                </a:lnTo>
                <a:lnTo>
                  <a:pt x="7692" y="7323"/>
                </a:lnTo>
                <a:lnTo>
                  <a:pt x="7710" y="7348"/>
                </a:lnTo>
                <a:lnTo>
                  <a:pt x="7730" y="7364"/>
                </a:lnTo>
                <a:lnTo>
                  <a:pt x="7752" y="7383"/>
                </a:lnTo>
                <a:lnTo>
                  <a:pt x="7817" y="7438"/>
                </a:lnTo>
                <a:lnTo>
                  <a:pt x="7888" y="7430"/>
                </a:lnTo>
                <a:lnTo>
                  <a:pt x="7968" y="7442"/>
                </a:lnTo>
                <a:lnTo>
                  <a:pt x="8118" y="7464"/>
                </a:lnTo>
                <a:lnTo>
                  <a:pt x="8250" y="7572"/>
                </a:lnTo>
                <a:lnTo>
                  <a:pt x="8403" y="7560"/>
                </a:lnTo>
                <a:lnTo>
                  <a:pt x="8512" y="7551"/>
                </a:lnTo>
                <a:lnTo>
                  <a:pt x="8613" y="7548"/>
                </a:lnTo>
                <a:lnTo>
                  <a:pt x="8722" y="7548"/>
                </a:lnTo>
                <a:lnTo>
                  <a:pt x="8899" y="7549"/>
                </a:lnTo>
                <a:lnTo>
                  <a:pt x="9062" y="7483"/>
                </a:lnTo>
                <a:lnTo>
                  <a:pt x="9242" y="7491"/>
                </a:lnTo>
                <a:lnTo>
                  <a:pt x="9356" y="7496"/>
                </a:lnTo>
                <a:lnTo>
                  <a:pt x="9424" y="7493"/>
                </a:lnTo>
                <a:lnTo>
                  <a:pt x="9521" y="7432"/>
                </a:lnTo>
                <a:lnTo>
                  <a:pt x="9652" y="7350"/>
                </a:lnTo>
                <a:lnTo>
                  <a:pt x="9826" y="7258"/>
                </a:lnTo>
                <a:lnTo>
                  <a:pt x="9870" y="7099"/>
                </a:lnTo>
                <a:lnTo>
                  <a:pt x="9880" y="7065"/>
                </a:lnTo>
                <a:lnTo>
                  <a:pt x="9882" y="7028"/>
                </a:lnTo>
                <a:lnTo>
                  <a:pt x="9881" y="6992"/>
                </a:lnTo>
                <a:lnTo>
                  <a:pt x="9879" y="6871"/>
                </a:lnTo>
                <a:lnTo>
                  <a:pt x="9820" y="6731"/>
                </a:lnTo>
                <a:lnTo>
                  <a:pt x="9731" y="6649"/>
                </a:lnTo>
                <a:lnTo>
                  <a:pt x="9671" y="6593"/>
                </a:lnTo>
                <a:lnTo>
                  <a:pt x="9570" y="6580"/>
                </a:lnTo>
                <a:lnTo>
                  <a:pt x="9496" y="6546"/>
                </a:lnTo>
                <a:lnTo>
                  <a:pt x="9357" y="6482"/>
                </a:lnTo>
                <a:lnTo>
                  <a:pt x="9234" y="6441"/>
                </a:lnTo>
                <a:lnTo>
                  <a:pt x="9088" y="6404"/>
                </a:lnTo>
                <a:lnTo>
                  <a:pt x="9026" y="6388"/>
                </a:lnTo>
                <a:lnTo>
                  <a:pt x="8966" y="6356"/>
                </a:lnTo>
                <a:lnTo>
                  <a:pt x="8900" y="6377"/>
                </a:lnTo>
                <a:lnTo>
                  <a:pt x="8834" y="6398"/>
                </a:lnTo>
                <a:lnTo>
                  <a:pt x="8796" y="6447"/>
                </a:lnTo>
                <a:lnTo>
                  <a:pt x="8755" y="6497"/>
                </a:lnTo>
                <a:lnTo>
                  <a:pt x="8738" y="6511"/>
                </a:lnTo>
                <a:lnTo>
                  <a:pt x="8732" y="6514"/>
                </a:lnTo>
                <a:lnTo>
                  <a:pt x="8734" y="6529"/>
                </a:lnTo>
                <a:lnTo>
                  <a:pt x="8766" y="6487"/>
                </a:lnTo>
                <a:lnTo>
                  <a:pt x="8787" y="6457"/>
                </a:lnTo>
                <a:lnTo>
                  <a:pt x="8815" y="6410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8:55:59Z</dcterms:created>
  <dc:creator/>
  <dc:description/>
  <dc:language>en-US</dc:language>
  <cp:lastModifiedBy/>
  <dcterms:modified xsi:type="dcterms:W3CDTF">2009-07-24T22:20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1033</vt:lpwstr>
  </property>
</Properties>
</file>